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1360" y="271080"/>
            <a:ext cx="823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52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1360" y="271080"/>
            <a:ext cx="823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5056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1360" y="271080"/>
            <a:ext cx="823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596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84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352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596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84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1360" y="271080"/>
            <a:ext cx="823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52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1360" y="271080"/>
            <a:ext cx="823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1360" y="271080"/>
            <a:ext cx="823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1360" y="271080"/>
            <a:ext cx="823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31360" y="271080"/>
            <a:ext cx="8231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1360" y="271080"/>
            <a:ext cx="823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1360" y="271080"/>
            <a:ext cx="823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3352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1360" y="271080"/>
            <a:ext cx="823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75056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1360" y="271080"/>
            <a:ext cx="823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1360" y="271080"/>
            <a:ext cx="823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352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1360" y="271080"/>
            <a:ext cx="823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75056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1360" y="271080"/>
            <a:ext cx="823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1596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84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352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1596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984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1360" y="271080"/>
            <a:ext cx="823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3352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1360" y="271080"/>
            <a:ext cx="823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1360" y="271080"/>
            <a:ext cx="823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1360" y="271080"/>
            <a:ext cx="823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1360" y="271080"/>
            <a:ext cx="823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531360" y="271080"/>
            <a:ext cx="8231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1360" y="271080"/>
            <a:ext cx="823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1360" y="271080"/>
            <a:ext cx="823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75056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1360" y="271080"/>
            <a:ext cx="823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1360" y="271080"/>
            <a:ext cx="823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3352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1360" y="271080"/>
            <a:ext cx="823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75056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1360" y="271080"/>
            <a:ext cx="823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31596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84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3352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31596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984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1360" y="271080"/>
            <a:ext cx="823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3352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1360" y="271080"/>
            <a:ext cx="823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1360" y="271080"/>
            <a:ext cx="823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1360" y="271080"/>
            <a:ext cx="823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1360" y="271080"/>
            <a:ext cx="823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531360" y="271080"/>
            <a:ext cx="8231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1360" y="271080"/>
            <a:ext cx="823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1360" y="271080"/>
            <a:ext cx="823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75056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1360" y="271080"/>
            <a:ext cx="823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1360" y="271080"/>
            <a:ext cx="823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352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1360" y="271080"/>
            <a:ext cx="823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75056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1360" y="271080"/>
            <a:ext cx="823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31596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84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3352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31596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984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1360" y="271080"/>
            <a:ext cx="823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1360" y="271080"/>
            <a:ext cx="8231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1360" y="271080"/>
            <a:ext cx="823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1360" y="271080"/>
            <a:ext cx="823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5056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1360" y="271080"/>
            <a:ext cx="823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1360" y="271080"/>
            <a:ext cx="823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7" descr="logo_black"/>
          <p:cNvPicPr/>
          <p:nvPr/>
        </p:nvPicPr>
        <p:blipFill>
          <a:blip r:embed="rId2"/>
          <a:stretch/>
        </p:blipFill>
        <p:spPr>
          <a:xfrm>
            <a:off x="8373960" y="127080"/>
            <a:ext cx="584280" cy="44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1360" y="271080"/>
            <a:ext cx="823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3352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群組 8"/>
          <p:cNvGrpSpPr/>
          <p:nvPr/>
        </p:nvGrpSpPr>
        <p:grpSpPr>
          <a:xfrm>
            <a:off x="8251560" y="127080"/>
            <a:ext cx="817920" cy="636480"/>
            <a:chOff x="8251560" y="127080"/>
            <a:chExt cx="817920" cy="636480"/>
          </a:xfrm>
        </p:grpSpPr>
        <p:pic>
          <p:nvPicPr>
            <p:cNvPr id="78" name="Picture 7" descr="logo_black"/>
            <p:cNvPicPr/>
            <p:nvPr/>
          </p:nvPicPr>
          <p:blipFill>
            <a:blip r:embed="rId2"/>
            <a:stretch/>
          </p:blipFill>
          <p:spPr>
            <a:xfrm>
              <a:off x="8373240" y="127080"/>
              <a:ext cx="585720" cy="4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Text Box 4"/>
            <p:cNvSpPr/>
            <p:nvPr/>
          </p:nvSpPr>
          <p:spPr>
            <a:xfrm>
              <a:off x="8251560" y="552600"/>
              <a:ext cx="81792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808080"/>
                  </a:solidFill>
                  <a:latin typeface="Arial"/>
                  <a:ea typeface="微軟正黑體"/>
                </a:rPr>
                <a:t>TSMC</a:t>
              </a:r>
              <a:r>
                <a:rPr b="1" lang="zh-TW" sz="700" spc="-1" strike="noStrike">
                  <a:solidFill>
                    <a:srgbClr val="808080"/>
                  </a:solidFill>
                  <a:latin typeface="Arial"/>
                  <a:ea typeface="微軟正黑體"/>
                </a:rPr>
                <a:t> </a:t>
              </a:r>
              <a:r>
                <a:rPr b="1" lang="en-US" sz="700" spc="-1" strike="noStrike">
                  <a:solidFill>
                    <a:srgbClr val="808080"/>
                  </a:solidFill>
                  <a:latin typeface="Arial"/>
                  <a:ea typeface="微軟正黑體"/>
                </a:rPr>
                <a:t>Property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1360" y="271080"/>
            <a:ext cx="823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53352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群組 8"/>
          <p:cNvGrpSpPr/>
          <p:nvPr/>
        </p:nvGrpSpPr>
        <p:grpSpPr>
          <a:xfrm>
            <a:off x="8251560" y="127080"/>
            <a:ext cx="817920" cy="636480"/>
            <a:chOff x="8251560" y="127080"/>
            <a:chExt cx="817920" cy="636480"/>
          </a:xfrm>
        </p:grpSpPr>
        <p:pic>
          <p:nvPicPr>
            <p:cNvPr id="119" name="Picture 7" descr="logo_black"/>
            <p:cNvPicPr/>
            <p:nvPr/>
          </p:nvPicPr>
          <p:blipFill>
            <a:blip r:embed="rId2"/>
            <a:stretch/>
          </p:blipFill>
          <p:spPr>
            <a:xfrm>
              <a:off x="8373240" y="127080"/>
              <a:ext cx="585720" cy="4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4"/>
            <p:cNvSpPr/>
            <p:nvPr/>
          </p:nvSpPr>
          <p:spPr>
            <a:xfrm>
              <a:off x="8251560" y="552600"/>
              <a:ext cx="81792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808080"/>
                  </a:solidFill>
                  <a:latin typeface="Arial"/>
                  <a:ea typeface="微軟正黑體"/>
                </a:rPr>
                <a:t>TSMC</a:t>
              </a:r>
              <a:r>
                <a:rPr b="1" lang="zh-TW" sz="700" spc="-1" strike="noStrike">
                  <a:solidFill>
                    <a:srgbClr val="808080"/>
                  </a:solidFill>
                  <a:latin typeface="Arial"/>
                  <a:ea typeface="微軟正黑體"/>
                </a:rPr>
                <a:t> </a:t>
              </a:r>
              <a:r>
                <a:rPr b="1" lang="en-US" sz="700" spc="-1" strike="noStrike">
                  <a:solidFill>
                    <a:srgbClr val="808080"/>
                  </a:solidFill>
                  <a:latin typeface="Arial"/>
                  <a:ea typeface="微軟正黑體"/>
                </a:rPr>
                <a:t>Property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1360" y="271080"/>
            <a:ext cx="823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53352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.pn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1.pn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圖片 18" descr=""/>
          <p:cNvPicPr/>
          <p:nvPr/>
        </p:nvPicPr>
        <p:blipFill>
          <a:blip r:embed="rId1"/>
          <a:stretch/>
        </p:blipFill>
        <p:spPr>
          <a:xfrm>
            <a:off x="0" y="-11160"/>
            <a:ext cx="1614600" cy="1325520"/>
          </a:xfrm>
          <a:prstGeom prst="rect">
            <a:avLst/>
          </a:prstGeom>
          <a:ln w="0">
            <a:noFill/>
          </a:ln>
        </p:spPr>
      </p:pic>
      <p:grpSp>
        <p:nvGrpSpPr>
          <p:cNvPr id="160" name="群組 4"/>
          <p:cNvGrpSpPr/>
          <p:nvPr/>
        </p:nvGrpSpPr>
        <p:grpSpPr>
          <a:xfrm>
            <a:off x="6448320" y="3855960"/>
            <a:ext cx="2725920" cy="3029040"/>
            <a:chOff x="6448320" y="3855960"/>
            <a:chExt cx="2725920" cy="3029040"/>
          </a:xfrm>
        </p:grpSpPr>
        <p:pic>
          <p:nvPicPr>
            <p:cNvPr id="161" name="圖片 3" descr=""/>
            <p:cNvPicPr/>
            <p:nvPr/>
          </p:nvPicPr>
          <p:blipFill>
            <a:blip r:embed="rId2"/>
            <a:stretch/>
          </p:blipFill>
          <p:spPr>
            <a:xfrm>
              <a:off x="6448320" y="3855960"/>
              <a:ext cx="2725920" cy="301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圖片 2" descr=""/>
            <p:cNvPicPr/>
            <p:nvPr/>
          </p:nvPicPr>
          <p:blipFill>
            <a:blip r:embed="rId3"/>
            <a:stretch/>
          </p:blipFill>
          <p:spPr>
            <a:xfrm>
              <a:off x="6972120" y="4390560"/>
              <a:ext cx="2168280" cy="247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圖片 4" descr=""/>
            <p:cNvPicPr/>
            <p:nvPr/>
          </p:nvPicPr>
          <p:blipFill>
            <a:blip r:embed="rId4"/>
            <a:stretch/>
          </p:blipFill>
          <p:spPr>
            <a:xfrm>
              <a:off x="7897320" y="5445720"/>
              <a:ext cx="1253520" cy="143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1360" y="338040"/>
            <a:ext cx="823140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00000"/>
                </a:solidFill>
                <a:latin typeface="Arial"/>
              </a:rPr>
              <a:t>國立成功大學「半導體─元件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/</a:t>
            </a:r>
            <a:r>
              <a:rPr b="1" lang="zh-TW" sz="3200" spc="-1" strike="noStrike">
                <a:solidFill>
                  <a:srgbClr val="c00000"/>
                </a:solidFill>
                <a:latin typeface="Arial"/>
              </a:rPr>
              <a:t>整合學程」</a:t>
            </a:r>
            <a:endParaRPr b="1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65" name="矩形 16"/>
          <p:cNvSpPr/>
          <p:nvPr/>
        </p:nvSpPr>
        <p:spPr>
          <a:xfrm>
            <a:off x="608040" y="1125360"/>
            <a:ext cx="810576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" spc="-1" strike="noStrike">
                <a:solidFill>
                  <a:srgbClr val="000000"/>
                </a:solidFill>
                <a:latin typeface="Calibri"/>
                <a:ea typeface="Calibri"/>
              </a:rPr>
              <a:t>目的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287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Calibri"/>
                <a:ea typeface="Calibri"/>
              </a:rPr>
              <a:t>為鼓勵相關領域學生學習半導體製程、加強專業技術能力，台積電與國立成功大學電機工程學系共同攜手規劃「元件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/</a:t>
            </a:r>
            <a:r>
              <a:rPr b="1" lang="zh-TW" sz="1400" spc="-1" strike="noStrike">
                <a:solidFill>
                  <a:srgbClr val="000000"/>
                </a:solidFill>
                <a:latin typeface="Calibri"/>
                <a:ea typeface="Calibri"/>
              </a:rPr>
              <a:t>整合學程」，致力培育具有實作及就業競爭力之專業人才。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" spc="-1" strike="noStrike">
                <a:solidFill>
                  <a:srgbClr val="000000"/>
                </a:solidFill>
                <a:latin typeface="Calibri"/>
                <a:ea typeface="Calibri"/>
              </a:rPr>
              <a:t>課程規劃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圖片 1" descr=""/>
          <p:cNvPicPr/>
          <p:nvPr/>
        </p:nvPicPr>
        <p:blipFill>
          <a:blip r:embed="rId5"/>
          <a:stretch/>
        </p:blipFill>
        <p:spPr>
          <a:xfrm>
            <a:off x="7947000" y="0"/>
            <a:ext cx="766800" cy="439560"/>
          </a:xfrm>
          <a:prstGeom prst="rect">
            <a:avLst/>
          </a:prstGeom>
          <a:ln w="0">
            <a:noFill/>
          </a:ln>
        </p:spPr>
      </p:pic>
      <p:grpSp>
        <p:nvGrpSpPr>
          <p:cNvPr id="167" name="群組 13"/>
          <p:cNvGrpSpPr/>
          <p:nvPr/>
        </p:nvGrpSpPr>
        <p:grpSpPr>
          <a:xfrm>
            <a:off x="826920" y="2532240"/>
            <a:ext cx="7936200" cy="4174200"/>
            <a:chOff x="826920" y="2532240"/>
            <a:chExt cx="7936200" cy="4174200"/>
          </a:xfrm>
        </p:grpSpPr>
        <p:grpSp>
          <p:nvGrpSpPr>
            <p:cNvPr id="168" name="群組 11"/>
            <p:cNvGrpSpPr/>
            <p:nvPr/>
          </p:nvGrpSpPr>
          <p:grpSpPr>
            <a:xfrm>
              <a:off x="826920" y="2532240"/>
              <a:ext cx="2484720" cy="759240"/>
              <a:chOff x="826920" y="2532240"/>
              <a:chExt cx="2484720" cy="759240"/>
            </a:xfrm>
          </p:grpSpPr>
          <p:sp>
            <p:nvSpPr>
              <p:cNvPr id="169" name="平行四邊形 6"/>
              <p:cNvSpPr/>
              <p:nvPr/>
            </p:nvSpPr>
            <p:spPr>
              <a:xfrm>
                <a:off x="826920" y="2532240"/>
                <a:ext cx="2484720" cy="759240"/>
              </a:xfrm>
              <a:prstGeom prst="parallelogram">
                <a:avLst>
                  <a:gd name="adj" fmla="val 21348"/>
                </a:avLst>
              </a:prstGeom>
              <a:solidFill>
                <a:srgbClr val="f4ad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文字方塊 8"/>
              <p:cNvSpPr/>
              <p:nvPr/>
            </p:nvSpPr>
            <p:spPr>
              <a:xfrm>
                <a:off x="1387080" y="2600280"/>
                <a:ext cx="1354320" cy="61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ffffff"/>
                    </a:solidFill>
                    <a:latin typeface="Arial"/>
                    <a:ea typeface="微軟正黑體"/>
                  </a:rPr>
                  <a:t>元件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400" spc="-1" strike="noStrike">
                    <a:solidFill>
                      <a:srgbClr val="ffffff"/>
                    </a:solidFill>
                    <a:latin typeface="Arial"/>
                    <a:ea typeface="微軟正黑體"/>
                  </a:rPr>
                  <a:t>建立次世代元件開發能力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群組 26"/>
            <p:cNvGrpSpPr/>
            <p:nvPr/>
          </p:nvGrpSpPr>
          <p:grpSpPr>
            <a:xfrm>
              <a:off x="3421800" y="2532240"/>
              <a:ext cx="2484720" cy="765720"/>
              <a:chOff x="3421800" y="2532240"/>
              <a:chExt cx="2484720" cy="765720"/>
            </a:xfrm>
          </p:grpSpPr>
          <p:sp>
            <p:nvSpPr>
              <p:cNvPr id="172" name="平行四邊形 27"/>
              <p:cNvSpPr/>
              <p:nvPr/>
            </p:nvSpPr>
            <p:spPr>
              <a:xfrm>
                <a:off x="3421800" y="2532240"/>
                <a:ext cx="2484720" cy="765720"/>
              </a:xfrm>
              <a:prstGeom prst="parallelogram">
                <a:avLst>
                  <a:gd name="adj" fmla="val 21167"/>
                </a:avLst>
              </a:prstGeom>
              <a:solidFill>
                <a:srgbClr val="5f8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文字方塊 28"/>
              <p:cNvSpPr/>
              <p:nvPr/>
            </p:nvSpPr>
            <p:spPr>
              <a:xfrm>
                <a:off x="3987360" y="2597040"/>
                <a:ext cx="1354320" cy="61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ffffff"/>
                    </a:solidFill>
                    <a:latin typeface="Arial"/>
                    <a:ea typeface="微軟正黑體"/>
                  </a:rPr>
                  <a:t>製程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微軟正黑體"/>
                  </a:rPr>
                  <a:t>/</a:t>
                </a:r>
                <a:r>
                  <a:rPr b="1" lang="zh-TW" sz="1800" spc="-1" strike="noStrike">
                    <a:solidFill>
                      <a:srgbClr val="ffffff"/>
                    </a:solidFill>
                    <a:latin typeface="Arial"/>
                    <a:ea typeface="微軟正黑體"/>
                  </a:rPr>
                  <a:t>整合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400" spc="-1" strike="noStrike">
                    <a:solidFill>
                      <a:srgbClr val="ffffff"/>
                    </a:solidFill>
                    <a:latin typeface="Arial"/>
                    <a:ea typeface="微軟正黑體"/>
                  </a:rPr>
                  <a:t>培養先進製程及整合技術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群組 29"/>
            <p:cNvGrpSpPr/>
            <p:nvPr/>
          </p:nvGrpSpPr>
          <p:grpSpPr>
            <a:xfrm>
              <a:off x="6021720" y="2538360"/>
              <a:ext cx="2651040" cy="768240"/>
              <a:chOff x="6021720" y="2538360"/>
              <a:chExt cx="2651040" cy="768240"/>
            </a:xfrm>
          </p:grpSpPr>
          <p:sp>
            <p:nvSpPr>
              <p:cNvPr id="175" name="平行四邊形 30"/>
              <p:cNvSpPr/>
              <p:nvPr/>
            </p:nvSpPr>
            <p:spPr>
              <a:xfrm>
                <a:off x="6021720" y="2538360"/>
                <a:ext cx="2651040" cy="768240"/>
              </a:xfrm>
              <a:prstGeom prst="parallelogram">
                <a:avLst>
                  <a:gd name="adj" fmla="val 22510"/>
                </a:avLst>
              </a:prstGeom>
              <a:solidFill>
                <a:srgbClr val="c87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文字方塊 31"/>
              <p:cNvSpPr/>
              <p:nvPr/>
            </p:nvSpPr>
            <p:spPr>
              <a:xfrm>
                <a:off x="6539760" y="2595240"/>
                <a:ext cx="1552320" cy="58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ffffff"/>
                    </a:solidFill>
                    <a:latin typeface="Arial"/>
                    <a:ea typeface="微軟正黑體"/>
                  </a:rPr>
                  <a:t>材料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200" spc="-1" strike="noStrike">
                    <a:solidFill>
                      <a:srgbClr val="ffffff"/>
                    </a:solidFill>
                    <a:latin typeface="Arial"/>
                    <a:ea typeface="微軟正黑體"/>
                  </a:rPr>
                  <a:t>判斷電路失效所需之材料分析技術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文字方塊 12"/>
            <p:cNvSpPr/>
            <p:nvPr/>
          </p:nvSpPr>
          <p:spPr>
            <a:xfrm>
              <a:off x="956880" y="3397320"/>
              <a:ext cx="2465280" cy="21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spcBef>
                  <a:spcPts val="400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2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半導體元件物理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spcBef>
                  <a:spcPts val="400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2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固態物理導論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spcBef>
                  <a:spcPts val="400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2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量子力學導論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spcBef>
                  <a:spcPts val="400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2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半導體元件設計與模擬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spcBef>
                  <a:spcPts val="400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2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元件量測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spcBef>
                  <a:spcPts val="400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2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電路學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spcBef>
                  <a:spcPts val="400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2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工程數學二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spcBef>
                  <a:spcPts val="400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2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半導體記憶體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spcBef>
                  <a:spcPts val="400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2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神經形態運算與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AI</a:t>
              </a:r>
              <a:r>
                <a:rPr b="1" lang="zh-TW" sz="12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應用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文字方塊 45"/>
            <p:cNvSpPr/>
            <p:nvPr/>
          </p:nvSpPr>
          <p:spPr>
            <a:xfrm>
              <a:off x="3619440" y="3397320"/>
              <a:ext cx="2320920" cy="33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spcBef>
                  <a:spcPts val="400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2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半導體製程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spcBef>
                  <a:spcPts val="400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2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電子學一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spcBef>
                  <a:spcPts val="400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2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電子學二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spcBef>
                  <a:spcPts val="400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2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電磁學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spcBef>
                  <a:spcPts val="400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2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應用光電子學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spcBef>
                  <a:spcPts val="400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2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積體電路設計導論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spcBef>
                  <a:spcPts val="400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2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電子薄膜科技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spcBef>
                  <a:spcPts val="400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2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電漿工程應用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spcBef>
                  <a:spcPts val="400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2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實驗設計與統計應用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spcBef>
                  <a:spcPts val="400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2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半導體感測器實務技術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spcBef>
                  <a:spcPts val="400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2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先進製程整合特論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spcBef>
                  <a:spcPts val="400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2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固態熱力學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spcBef>
                  <a:spcPts val="400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2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微機電製程技術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spcBef>
                  <a:spcPts val="400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2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微電子工程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文字方塊 46"/>
            <p:cNvSpPr/>
            <p:nvPr/>
          </p:nvSpPr>
          <p:spPr>
            <a:xfrm>
              <a:off x="6069240" y="3397320"/>
              <a:ext cx="26938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spcBef>
                  <a:spcPts val="400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2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同調光及電子繞射顯微術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spcBef>
                  <a:spcPts val="400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2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材料分析與檢測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圖片 11" descr=""/>
          <p:cNvPicPr/>
          <p:nvPr/>
        </p:nvPicPr>
        <p:blipFill>
          <a:blip r:embed="rId6"/>
          <a:stretch/>
        </p:blipFill>
        <p:spPr>
          <a:xfrm>
            <a:off x="7594560" y="2371680"/>
            <a:ext cx="514440" cy="514440"/>
          </a:xfrm>
          <a:prstGeom prst="rect">
            <a:avLst/>
          </a:prstGeom>
          <a:ln w="0">
            <a:noFill/>
          </a:ln>
        </p:spPr>
      </p:pic>
      <p:pic>
        <p:nvPicPr>
          <p:cNvPr id="181" name="圖片 13" descr=""/>
          <p:cNvPicPr/>
          <p:nvPr/>
        </p:nvPicPr>
        <p:blipFill>
          <a:blip r:embed="rId7"/>
          <a:stretch/>
        </p:blipFill>
        <p:spPr>
          <a:xfrm>
            <a:off x="2322360" y="2371680"/>
            <a:ext cx="514440" cy="514440"/>
          </a:xfrm>
          <a:prstGeom prst="rect">
            <a:avLst/>
          </a:prstGeom>
          <a:ln w="0">
            <a:noFill/>
          </a:ln>
        </p:spPr>
      </p:pic>
      <p:pic>
        <p:nvPicPr>
          <p:cNvPr id="182" name="圖片 14" descr=""/>
          <p:cNvPicPr/>
          <p:nvPr/>
        </p:nvPicPr>
        <p:blipFill>
          <a:blip r:embed="rId8"/>
          <a:stretch/>
        </p:blipFill>
        <p:spPr>
          <a:xfrm>
            <a:off x="5157720" y="2379600"/>
            <a:ext cx="514440" cy="5144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logo_black"/>
          <p:cNvPicPr/>
          <p:nvPr/>
        </p:nvPicPr>
        <p:blipFill>
          <a:blip r:embed="rId9"/>
          <a:stretch/>
        </p:blipFill>
        <p:spPr>
          <a:xfrm>
            <a:off x="1612800" y="6381720"/>
            <a:ext cx="449280" cy="339840"/>
          </a:xfrm>
          <a:prstGeom prst="rect">
            <a:avLst/>
          </a:prstGeom>
          <a:ln w="0">
            <a:noFill/>
          </a:ln>
        </p:spPr>
      </p:pic>
      <p:pic>
        <p:nvPicPr>
          <p:cNvPr id="184" name="圖片 30" descr=""/>
          <p:cNvPicPr/>
          <p:nvPr/>
        </p:nvPicPr>
        <p:blipFill>
          <a:blip r:embed="rId10"/>
          <a:srcRect l="27467" t="40611" r="26073" b="40470"/>
          <a:stretch/>
        </p:blipFill>
        <p:spPr>
          <a:xfrm>
            <a:off x="120600" y="6340320"/>
            <a:ext cx="1511280" cy="4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圖片 18" descr=""/>
          <p:cNvPicPr/>
          <p:nvPr/>
        </p:nvPicPr>
        <p:blipFill>
          <a:blip r:embed="rId1"/>
          <a:stretch/>
        </p:blipFill>
        <p:spPr>
          <a:xfrm>
            <a:off x="0" y="-11160"/>
            <a:ext cx="1614600" cy="1325520"/>
          </a:xfrm>
          <a:prstGeom prst="rect">
            <a:avLst/>
          </a:prstGeom>
          <a:ln w="0">
            <a:noFill/>
          </a:ln>
        </p:spPr>
      </p:pic>
      <p:grpSp>
        <p:nvGrpSpPr>
          <p:cNvPr id="186" name="群組 4"/>
          <p:cNvGrpSpPr/>
          <p:nvPr/>
        </p:nvGrpSpPr>
        <p:grpSpPr>
          <a:xfrm>
            <a:off x="6448320" y="3855960"/>
            <a:ext cx="2725920" cy="3029040"/>
            <a:chOff x="6448320" y="3855960"/>
            <a:chExt cx="2725920" cy="3029040"/>
          </a:xfrm>
        </p:grpSpPr>
        <p:pic>
          <p:nvPicPr>
            <p:cNvPr id="187" name="圖片 3" descr=""/>
            <p:cNvPicPr/>
            <p:nvPr/>
          </p:nvPicPr>
          <p:blipFill>
            <a:blip r:embed="rId2"/>
            <a:stretch/>
          </p:blipFill>
          <p:spPr>
            <a:xfrm>
              <a:off x="6448320" y="3855960"/>
              <a:ext cx="2725920" cy="301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圖片 2" descr=""/>
            <p:cNvPicPr/>
            <p:nvPr/>
          </p:nvPicPr>
          <p:blipFill>
            <a:blip r:embed="rId3"/>
            <a:stretch/>
          </p:blipFill>
          <p:spPr>
            <a:xfrm>
              <a:off x="6972120" y="4390560"/>
              <a:ext cx="2168280" cy="247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圖片 4" descr=""/>
            <p:cNvPicPr/>
            <p:nvPr/>
          </p:nvPicPr>
          <p:blipFill>
            <a:blip r:embed="rId4"/>
            <a:stretch/>
          </p:blipFill>
          <p:spPr>
            <a:xfrm>
              <a:off x="7897320" y="5445720"/>
              <a:ext cx="1253520" cy="143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1360" y="266400"/>
            <a:ext cx="82314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00000"/>
                </a:solidFill>
                <a:latin typeface="Arial"/>
              </a:rPr>
              <a:t>國立成功大學「半導體─元件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/</a:t>
            </a:r>
            <a:r>
              <a:rPr b="1" lang="zh-TW" sz="2800" spc="-1" strike="noStrike">
                <a:solidFill>
                  <a:srgbClr val="c00000"/>
                </a:solidFill>
                <a:latin typeface="Arial"/>
              </a:rPr>
              <a:t>整合學程」</a:t>
            </a:r>
            <a:br>
              <a:rPr sz="2800"/>
            </a:b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修業說明</a:t>
            </a: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91" name="矩形 16"/>
          <p:cNvSpPr/>
          <p:nvPr/>
        </p:nvSpPr>
        <p:spPr>
          <a:xfrm>
            <a:off x="519120" y="1095480"/>
            <a:ext cx="8194680" cy="43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601"/>
              </a:spcBef>
              <a:buClr>
                <a:srgbClr val="c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Arial"/>
                <a:ea typeface="Calibri"/>
              </a:rPr>
              <a:t>報名方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  <a:ea typeface="Calibri"/>
              </a:rPr>
              <a:t>本學程採網路報名，將於每學期開學前開放報名，確切時間請見主持系所公告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  <a:ea typeface="Calibri"/>
              </a:rPr>
              <a:t>本學程凡成功大學各系所全時學生皆可報名，學生應修習之科目以報名當年所公布的修業規章為準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c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Arial"/>
                <a:ea typeface="Calibri"/>
              </a:rPr>
              <a:t>修課規定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  <a:ea typeface="Calibri"/>
              </a:rPr>
              <a:t>學生應透過學校選課系統選課，完成學程規定之必修課程，並修習至少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  <a:ea typeface="Calibri"/>
              </a:rPr>
              <a:t>門選修課程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  <a:ea typeface="Calibri"/>
              </a:rPr>
              <a:t>無論大學生或研究生，修課需滿足該課程程度之學校規定及格標準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c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Arial"/>
                <a:ea typeface="Calibri"/>
              </a:rPr>
              <a:t>學分採認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  <a:ea typeface="Calibri"/>
              </a:rPr>
              <a:t>各校半導體學程之學分計算互通，若學生於大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/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  <a:ea typeface="Calibri"/>
              </a:rPr>
              <a:t>碩士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/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  <a:ea typeface="Calibri"/>
              </a:rPr>
              <a:t>博士時期就讀不同學校，仍可延續採認。但修課科目列表以最高學歷學校之半導體學程為準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  <a:ea typeface="Calibri"/>
              </a:rPr>
              <a:t>學生若於非具半導體學程之他校修習相關課程，則須經主持系所審核採認學分數，詳情待確認後更新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c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Arial"/>
                <a:ea typeface="Calibri"/>
              </a:rPr>
              <a:t>修畢證明書申請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  <a:ea typeface="Calibri"/>
              </a:rPr>
              <a:t>請填寫「學程修畢證明申請單」，並連同歷年修課成績單以附檔方式寄給台積電 曾小姐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(Email: april_tseng@tsmc.com / Tel: 03-563-6688 #707-2933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  <a:ea typeface="Calibri"/>
              </a:rPr>
              <a:t>學生繳交之申請單及修課學分數經審查無誤後，將由主持系所及台積公司簽署寄發「半導體─元件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/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  <a:ea typeface="Calibri"/>
              </a:rPr>
              <a:t>整合學程修畢證明書」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c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Arial"/>
                <a:ea typeface="Calibri"/>
              </a:rPr>
              <a:t>學程特別方案</a:t>
            </a:r>
            <a:r>
              <a:rPr b="1" lang="zh-TW" sz="1200" spc="-1" strike="noStrike">
                <a:solidFill>
                  <a:srgbClr val="000000"/>
                </a:solidFill>
                <a:latin typeface="Arial"/>
                <a:ea typeface="Calibri"/>
              </a:rPr>
              <a:t>*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  <a:ea typeface="Calibri"/>
              </a:rPr>
              <a:t>獲學程修畢證書者：將於申請台積公司職缺時獲保證面試機會；若學程科目表現優良達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B+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  <a:ea typeface="Calibri"/>
              </a:rPr>
              <a:t>以上並獲台積錄取，台積公司將依據聘書發放年度之薪資級距標準，提供優於非學程學生之差異化薪資。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  <a:ea typeface="Calibri"/>
              </a:rPr>
              <a:t>*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Arial"/>
                <a:ea typeface="Calibri"/>
              </a:rPr>
              <a:t>備註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  <a:ea typeface="Calibri"/>
              </a:rPr>
              <a:t>報名後未順利達成修課規定者，僅無法獲得本學程之修畢證書，不影響學生在校任何成績或表現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圖片 1" descr=""/>
          <p:cNvPicPr/>
          <p:nvPr/>
        </p:nvPicPr>
        <p:blipFill>
          <a:blip r:embed="rId5"/>
          <a:stretch/>
        </p:blipFill>
        <p:spPr>
          <a:xfrm>
            <a:off x="7947000" y="0"/>
            <a:ext cx="766800" cy="439560"/>
          </a:xfrm>
          <a:prstGeom prst="rect">
            <a:avLst/>
          </a:prstGeom>
          <a:ln w="0">
            <a:noFill/>
          </a:ln>
        </p:spPr>
      </p:pic>
      <p:sp>
        <p:nvSpPr>
          <p:cNvPr id="193" name="矩形 1"/>
          <p:cNvSpPr/>
          <p:nvPr/>
        </p:nvSpPr>
        <p:spPr>
          <a:xfrm>
            <a:off x="4616280" y="6534000"/>
            <a:ext cx="348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00" spc="-1" strike="noStrike">
                <a:solidFill>
                  <a:srgbClr val="000000"/>
                </a:solidFill>
                <a:latin typeface="Arial"/>
                <a:ea typeface="微軟正黑體"/>
              </a:rPr>
              <a:t>*</a:t>
            </a:r>
            <a:r>
              <a:rPr b="0" lang="zh-TW" sz="700" spc="-1" strike="noStrike">
                <a:solidFill>
                  <a:srgbClr val="000000"/>
                </a:solidFill>
                <a:latin typeface="Arial"/>
                <a:ea typeface="微軟正黑體"/>
              </a:rPr>
              <a:t>學業表現以本學程所規定之課程平均計算，非本學程相關課程之成績不列入計算。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00" spc="-1" strike="noStrike">
                <a:solidFill>
                  <a:srgbClr val="000000"/>
                </a:solidFill>
                <a:latin typeface="Arial"/>
                <a:ea typeface="微軟正黑體"/>
              </a:rPr>
              <a:t>*</a:t>
            </a:r>
            <a:r>
              <a:rPr b="0" lang="zh-TW" sz="700" spc="-1" strike="noStrike">
                <a:solidFill>
                  <a:srgbClr val="000000"/>
                </a:solidFill>
                <a:latin typeface="Arial"/>
                <a:ea typeface="微軟正黑體"/>
              </a:rPr>
              <a:t>台積公司針對“學程特別方案”保留修改及解釋之權利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7" descr="logo_black"/>
          <p:cNvPicPr/>
          <p:nvPr/>
        </p:nvPicPr>
        <p:blipFill>
          <a:blip r:embed="rId6"/>
          <a:stretch/>
        </p:blipFill>
        <p:spPr>
          <a:xfrm>
            <a:off x="1612800" y="6381720"/>
            <a:ext cx="449280" cy="339840"/>
          </a:xfrm>
          <a:prstGeom prst="rect">
            <a:avLst/>
          </a:prstGeom>
          <a:ln w="0">
            <a:noFill/>
          </a:ln>
        </p:spPr>
      </p:pic>
      <p:pic>
        <p:nvPicPr>
          <p:cNvPr id="195" name="圖片 13" descr=""/>
          <p:cNvPicPr/>
          <p:nvPr/>
        </p:nvPicPr>
        <p:blipFill>
          <a:blip r:embed="rId7"/>
          <a:srcRect l="27467" t="40611" r="26073" b="40470"/>
          <a:stretch/>
        </p:blipFill>
        <p:spPr>
          <a:xfrm>
            <a:off x="120600" y="6340320"/>
            <a:ext cx="1511280" cy="4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7T04:48:03Z</dcterms:created>
  <dc:creator>TSMC</dc:creator>
  <dc:description/>
  <dc:language>en-US</dc:language>
  <cp:lastModifiedBy>曾子琳</cp:lastModifiedBy>
  <cp:lastPrinted>2020-03-09T09:47:23Z</cp:lastPrinted>
  <dcterms:modified xsi:type="dcterms:W3CDTF">2020-03-10T01:38:57Z</dcterms:modified>
  <cp:revision>453</cp:revision>
  <dc:subject/>
  <dc:title>PowerPoint 簡報</dc:title>
</cp:coreProperties>
</file>